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436-F5AE-45D5-BF0B-ADD53B44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240-9EDB-451D-9D87-CF0F3291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200-0BBC-4A2C-B523-BE36AF92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CAD-3789-4FEC-BEB6-762D25B6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54C-17C9-4658-AE38-54A65C37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95A2-373C-4A4F-A2F9-3F0008B8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4CB-A2BF-4D1F-AB2F-F41C9B24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3F6-7EF4-49A6-B824-D8DBCE6A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3A68-D1C9-4414-B7F8-29FF18DD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EFC-32DB-425B-A6D8-B5BEE68A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46E-BCC1-42B7-9276-E37067D8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33C-CC0B-4C52-B680-C060E92E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B591-C18F-4E7E-A78B-6D793E0EB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413000"/>
            <a:ext cx="75582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esoins en Instrumentation pour les gros Water Cerenkov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dée en vr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an-E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1/03/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que chiff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ille 65m diam. 65m de haut: 220kT d’eau (rappel SuperK 50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~81,000 12’’ PMTs (equi. 40% coverage 20’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EMPHYS : 3 puits =&gt; 440kT fiduc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ût: 300k€ (cavités) + 300k€ PMTs et électronique, HT + 100k€ usines radon– pour l’air et l’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16880" y="604044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&amp;D pour réduire les coûts (mais pas seuleme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e de R&amp;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en Cavité-détecteur: éviter un container soudé en inox =&gt; Liner à la IMB. Ex. de R&amp;D au U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360" y="2708280"/>
            <a:ext cx="4640400" cy="335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38606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 forcément où le LAL peu avoir un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e de R&amp;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MTs et Electronique, HT: cf. ANR 2006 projet: « PMm2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onstrateur d’une unité de détection autonome ~1m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une matrice de 4x4 PMs (8’’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PHOTONI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immergé dans l’eau (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IPNO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avec ASIC de lecture (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A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allant du correcteur de Gain jusqu’à la digitization Charge et Temps, et l’unité de réseau WiFi (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AP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1k€/voie tout compri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93080" y="4941720"/>
            <a:ext cx="1504800" cy="1657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9440" y="604044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l’ANR refuse le R&amp;D dem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e de R&amp;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rtains canaux de physique ont besoin de tagger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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+ p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+ e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Neutrinos d’ancienne Supernova (réduction du bdf muon atmos. in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i burning dans le cas d’une SN &lt;2k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Neutrinos de réacteur (mesure des paramétres d’oscillations « de type solaire »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724280"/>
            <a:ext cx="5472360" cy="1584360"/>
          </a:xfrm>
          <a:prstGeom prst="rect">
            <a:avLst/>
          </a:prstGeom>
          <a:solidFill>
            <a:srgbClr val="682245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Gd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ly water soluble but ac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utron capture on Gd emits a 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8.0 MeV </a:t>
            </a:r>
            <a:r>
              <a:rPr b="0" lang="en-US" sz="16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 tons of GdCl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n SK-III (0.2% by mass) would yield  &gt;90% neutron captures on G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est currently on the K2K 1kT 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6381720"/>
            <a:ext cx="459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Beacom &amp; Vagins Phys. Rev. Lett.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3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:171101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12600" y="4365720"/>
            <a:ext cx="2769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re une cuve de 1m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fférent l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au pure + GdC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c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 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27440" y="5661000"/>
            <a:ext cx="233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de compatibil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-GdC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r-Gd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44:59Z</dcterms:created>
  <dc:creator>J.E Campagne</dc:creator>
  <dc:description/>
  <dc:language>en-US</dc:language>
  <cp:lastModifiedBy>J.E Campagne</cp:lastModifiedBy>
  <dcterms:modified xsi:type="dcterms:W3CDTF">2006-03-21T10:45:23Z</dcterms:modified>
  <cp:revision>1</cp:revision>
  <dc:subject/>
  <dc:title>Besoins en Instrumentation pour les gros Water Cerenkov idée en vrac</dc:title>
</cp:coreProperties>
</file>